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789-BD8F-4C70-87C1-DA62E9D2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0DE-AC75-4AD6-A312-DA1D52EE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BF2-F289-412D-BE39-B006C3EE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B9A-01F0-4D5E-A73A-7B030DE3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9CF-DD49-49D9-A311-3688CAD1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7AF-25A7-48CE-B950-70C817CB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AA8-EF03-49D5-AF2C-050D9550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22B-AACC-4999-8F41-50173B2D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A68-6DA8-4CB9-A6C5-6AC8899B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057-46E2-4D09-9913-A6E7A138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D2A-F4F0-4F19-A06C-BBDB5E6B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12A-B7CE-4D3C-979E-426B9057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55F7-D866-4547-9E7A-5AF5F83DC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in%20título-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n%20título-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n%20título-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n%20título-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in%20título-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in%20título-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7:39:56Z</dcterms:created>
  <dc:creator>Grupo Editorial</dc:creator>
  <dc:description/>
  <dc:language>en-US</dc:language>
  <cp:lastModifiedBy>Grupo Editorial</cp:lastModifiedBy>
  <dcterms:modified xsi:type="dcterms:W3CDTF">2001-09-21T07:46:57Z</dcterms:modified>
  <cp:revision>1</cp:revision>
  <dc:subject/>
  <dc:title>Sin título de diapositiva</dc:title>
</cp:coreProperties>
</file>